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03AB-BB2E-4CC5-80F3-59956AB0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7AE8-A9D5-41F7-971F-1F14AD4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4CEC-C884-4572-9451-21FCB406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5410-E3FE-4E94-BF3C-B12B878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9400" y="0"/>
            <a:ext cx="68104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D689-A0CE-45F7-930E-48B93CD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E128C-4C92-4A2F-AA1F-EB0549AB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AB0D-0515-4C3E-AE2A-8F671F9A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8F395-4977-4E74-B643-F181E100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CCF2-974C-4B14-8D74-643093CB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80F54-73F8-4294-A152-66B515F7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02BF-2E35-4977-9014-97425DB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49400" y="0"/>
            <a:ext cx="68104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482E9-5056-4460-A7B0-7A3AB4A7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80392-0DAB-4F60-BEB8-9024EEC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441CA-9D53-4A0B-9AB3-AC98D65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2302-A19D-406C-88B7-BCFE956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963C0-4700-4CC5-951B-90BDDF5A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6144-9464-445C-8928-324F74C3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2540-79BF-4CA8-863E-08FCED21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949C-1117-406A-A1AB-1C4EF57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0A86-807C-4BDF-8C3D-8829CA2E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9400" y="0"/>
            <a:ext cx="68104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0932-FA3A-45B0-8BF4-2675868E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D651-C57E-4F8F-A450-BF60031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CD29-2586-4CA1-A062-F72BA4E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8B1A-D5AA-4592-94CE-A5AF2BE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master_final_300_int"/>
          <p:cNvPicPr/>
          <p:nvPr/>
        </p:nvPicPr>
        <p:blipFill>
          <a:blip r:embed="rId2"/>
          <a:stretch/>
        </p:blipFill>
        <p:spPr>
          <a:xfrm>
            <a:off x="0" y="0"/>
            <a:ext cx="9140760" cy="1903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1e40"/>
              </a:gs>
              <a:gs pos="50000">
                <a:srgbClr val="00408b"/>
              </a:gs>
              <a:gs pos="100000">
                <a:srgbClr val="001e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spcBef>
                <a:spcPts val="561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979280" y="6524280"/>
            <a:ext cx="51958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al Logistics Support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889400" y="6524280"/>
            <a:ext cx="1011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B7B-DD8B-4130-B23C-50A618AAD05C}" type="slidenum"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40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1" marL="57312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2" marL="1025640" indent="-16668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3" marL="143208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4" marL="1773360" indent="-119160">
              <a:spcBef>
                <a:spcPts val="499"/>
              </a:spcBef>
              <a:buClr>
                <a:srgbClr val="00408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5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6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227160" y="6524280"/>
            <a:ext cx="1666800" cy="29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2 Jul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1" descr="master_final_300_cover"/>
          <p:cNvPicPr/>
          <p:nvPr/>
        </p:nvPicPr>
        <p:blipFill>
          <a:blip r:embed="rId2"/>
          <a:stretch/>
        </p:blipFill>
        <p:spPr>
          <a:xfrm>
            <a:off x="0" y="0"/>
            <a:ext cx="9140760" cy="1903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6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1e40"/>
              </a:gs>
              <a:gs pos="50000">
                <a:srgbClr val="00408b"/>
              </a:gs>
              <a:gs pos="100000">
                <a:srgbClr val="001e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spcBef>
                <a:spcPts val="561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45" name="Text Box 93"/>
          <p:cNvSpPr/>
          <p:nvPr/>
        </p:nvSpPr>
        <p:spPr>
          <a:xfrm>
            <a:off x="0" y="650232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namsa.nato.int</a:t>
            </a:r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pic>
        <p:nvPicPr>
          <p:cNvPr id="46" name="Picture 96" descr="01_27Drapeaux_bouquet_Ordered__petit"/>
          <p:cNvPicPr/>
          <p:nvPr/>
        </p:nvPicPr>
        <p:blipFill>
          <a:blip r:embed="rId3"/>
          <a:stretch/>
        </p:blipFill>
        <p:spPr>
          <a:xfrm>
            <a:off x="2557440" y="2714760"/>
            <a:ext cx="4029120" cy="308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40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1" marL="57312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2" marL="1025640" indent="-16668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3" marL="143208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4" marL="1773360" indent="-119160">
              <a:spcBef>
                <a:spcPts val="499"/>
              </a:spcBef>
              <a:buClr>
                <a:srgbClr val="00408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5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6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9" descr="master_final_300_int"/>
          <p:cNvPicPr/>
          <p:nvPr/>
        </p:nvPicPr>
        <p:blipFill>
          <a:blip r:embed="rId2"/>
          <a:stretch/>
        </p:blipFill>
        <p:spPr>
          <a:xfrm>
            <a:off x="0" y="0"/>
            <a:ext cx="9140760" cy="1903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1e40"/>
              </a:gs>
              <a:gs pos="50000">
                <a:srgbClr val="00408b"/>
              </a:gs>
              <a:gs pos="100000">
                <a:srgbClr val="001e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spcBef>
                <a:spcPts val="561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408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1" marL="57312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2" marL="1025640" indent="-16668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3" marL="1432080" indent="-176400">
              <a:spcBef>
                <a:spcPts val="499"/>
              </a:spcBef>
              <a:buClr>
                <a:srgbClr val="0040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4" marL="1773360" indent="-119160">
              <a:spcBef>
                <a:spcPts val="499"/>
              </a:spcBef>
              <a:buClr>
                <a:srgbClr val="00408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5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  <a:p>
            <a:pPr lvl="6" marL="1773360" indent="-11916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1979280" y="6524280"/>
            <a:ext cx="51958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al Logistics Support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7889400" y="6524280"/>
            <a:ext cx="1011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E4F-B0DF-4AA8-9570-3B7A2C60FA55}" type="slidenum"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6"/>
          </p:nvPr>
        </p:nvSpPr>
        <p:spPr>
          <a:xfrm>
            <a:off x="227160" y="6524280"/>
            <a:ext cx="1666800" cy="291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3 Aug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277920" y="6524640"/>
            <a:ext cx="1666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b"/>
                </a:solidFill>
                <a:latin typeface="Arial"/>
                <a:ea typeface="ＭＳ Ｐゴシック"/>
              </a:rPr>
              <a:t>28 July 2009</a:t>
            </a:r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889760" y="6524640"/>
            <a:ext cx="101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642-E65B-4A7A-9271-B9CDA3F9F067}" type="slidenum">
              <a:rPr b="0" lang="en-GB" sz="1400" spc="-1" strike="noStrike">
                <a:solidFill>
                  <a:srgbClr val="00408b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9400" y="0"/>
            <a:ext cx="6810480" cy="78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 BOARD TO BIDDERS – RFP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F - APOD SUPPORT SERVICES – FSC100002</a:t>
            </a:r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979640" y="6524640"/>
            <a:ext cx="5195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al Logistics Support Programme</a:t>
            </a:r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889760" y="6524640"/>
            <a:ext cx="101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of 1 </a:t>
            </a:r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7160" y="6524640"/>
            <a:ext cx="1666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 May 2010</a:t>
            </a:r>
            <a:endParaRPr b="0" lang="en-US" sz="1400" spc="-1" strike="noStrike">
              <a:solidFill>
                <a:srgbClr val="00408b"/>
              </a:solidFill>
              <a:latin typeface="Arial"/>
            </a:endParaRPr>
          </a:p>
        </p:txBody>
      </p:sp>
      <p:sp>
        <p:nvSpPr>
          <p:cNvPr id="134" name="Rectangle 290"/>
          <p:cNvSpPr/>
          <p:nvPr/>
        </p:nvSpPr>
        <p:spPr>
          <a:xfrm>
            <a:off x="-109440" y="1631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85720" y="1428840"/>
          <a:ext cx="7978680" cy="3711600"/>
        </p:xfrm>
        <a:graphic>
          <a:graphicData uri="http://schemas.openxmlformats.org/drawingml/2006/table">
            <a:tbl>
              <a:tblPr/>
              <a:tblGrid>
                <a:gridCol w="1224000"/>
                <a:gridCol w="3409920"/>
                <a:gridCol w="334476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408b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408b"/>
                          </a:solidFill>
                          <a:latin typeface="Times New Roman"/>
                          <a:ea typeface="Times New Roman"/>
                        </a:rPr>
                        <a:t>EVENT</a:t>
                      </a:r>
                      <a:endParaRPr b="0" lang="en-US" sz="12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408b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408b"/>
                          </a:solidFill>
                          <a:latin typeface="Arial"/>
                        </a:rPr>
                        <a:t>4 May 2010</a:t>
                      </a:r>
                      <a:endParaRPr b="0" lang="en-US" sz="11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408b"/>
                          </a:solidFill>
                          <a:latin typeface="Arial"/>
                        </a:rPr>
                        <a:t>RFP – FSC100002 - Released</a:t>
                      </a:r>
                      <a:endParaRPr b="0" lang="en-US" sz="11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408b"/>
                          </a:solidFill>
                          <a:latin typeface="Arial"/>
                        </a:rPr>
                        <a:t>5 May 2010</a:t>
                      </a:r>
                      <a:endParaRPr b="0" lang="en-US" sz="11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408b"/>
                          </a:solidFill>
                          <a:latin typeface="Arial"/>
                        </a:rPr>
                        <a:t>RFP Exhibit IV - RFP Response Form - Correction to Para 3.1 </a:t>
                      </a:r>
                      <a:endParaRPr b="0" lang="en-US" sz="11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408b"/>
                          </a:solidFill>
                          <a:latin typeface="Arial"/>
                        </a:rPr>
                        <a:t>Public Bid Opening to read as 8 July 2010</a:t>
                      </a:r>
                      <a:endParaRPr b="0" lang="en-US" sz="11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408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482"/>
          <p:cNvSpPr/>
          <p:nvPr/>
        </p:nvSpPr>
        <p:spPr>
          <a:xfrm>
            <a:off x="-109440" y="522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4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29:01Z</dcterms:created>
  <dc:creator>n30809</dc:creator>
  <dc:description/>
  <dc:language>en-US</dc:language>
  <cp:lastModifiedBy>n51858</cp:lastModifiedBy>
  <dcterms:modified xsi:type="dcterms:W3CDTF">2010-05-05T08:20:23Z</dcterms:modified>
  <cp:revision>927</cp:revision>
  <dc:subject/>
  <dc:title>Slide 1</dc:title>
</cp:coreProperties>
</file>